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click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F25FF55-0F5B-4842-8B39-3C87C7315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9D39D69-5E60-4373-8026-7E441464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9B694F1-9572-451D-A3EF-1046ED13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688B33F-8AB7-46B9-8C66-5F52EA94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3AD579-313E-46FD-8598-60DC74C9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43A-0E4A-4373-8DAB-F23823E3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47E-7BD5-437F-B114-58590785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5F0-5928-497C-82A8-CDA55140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A1A-150B-4D16-84B0-7D2B4B11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79D5-E631-4D87-9821-1E561C4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BF2-1BA2-4568-ACE9-F3030AE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CC9-F4B6-4120-A259-83F1F36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2011-6276-43AB-A7EB-A845E14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A187-EAFF-4379-BCEF-E716E72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1B3-CDB4-4191-94C9-A50BECDC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7315-498F-4186-B7B2-10843C1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170-180F-4CFF-B042-B65659E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9CDA-A4C2-40FB-997C-6E0EB76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5F2-352D-4523-A845-9E077B9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B9FD-32B1-47D6-8BB0-CB21F5E7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B095-5E11-446B-BC81-69F31D99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538F-27E2-4B05-9426-C6F195B6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317E-62B2-40AA-9B56-8792AF7F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8FB6-4518-45C7-A341-F095675C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1F6C-0E01-4ACA-870B-368179C8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AA73-6AE2-44A9-A9AE-2927FE9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B46D-BA0F-44A8-9A53-25C0664E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257-309C-4989-AC3E-A749195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4F3F-A4B4-4278-8CB5-495996C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C902-2016-4CDA-98BC-EEB601A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0B5C-9881-43D9-AA5D-850CB57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6438-4C04-4DD0-861C-F343BB7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5787-2D11-44AD-919F-D13C748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EBF2-CF34-4176-9F2A-F0B5878C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5706-069D-4830-B345-2BC18BAA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9DD3-68CF-4338-9FE5-47B78AD7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385C-6BE8-4FD0-B98D-5A3C34D7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A1CC-0DDC-469E-B46B-1B291CA9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84F-9428-4AAC-82C8-83B7A473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4997-16DF-438B-A20A-F5512CF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479FB-6D75-497E-B1D2-63B7E64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A34C-CFE5-474D-99A0-8165CBBB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D151-982E-4A3E-AE00-5551C5A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1606-41D8-483D-9788-DE24BCD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A14A-3853-48FF-B91B-D6942E1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2CF9-32BD-40E8-8D26-5F24C65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671C-7618-4931-AE41-242F403B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D7BC-3A65-4F12-9A59-0D1E259A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6627-C298-4C3E-BFBE-A120A9E4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67-8EEC-41DA-AE73-5F62D6E3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4598-267E-401C-B0F0-51D53B2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598FD-7EEC-4914-915E-7A235294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DE0A-A9D0-4D29-B4FA-C606C0D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E297-0B37-48CE-8A40-FCA2C93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856C1-CC03-4DF9-8CCF-BFBC4FB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2093-7A59-456B-94F8-E22ABB1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63AB-48EA-4406-B879-836E332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2742-682A-43A3-92F6-E3791AB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DB5B-3A49-4EC0-8DED-2342F48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AFD9-2552-4B45-8DC3-630D6A2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797-DB3A-489B-AB0F-35CD41F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193F-D8F5-4FC5-B42E-76657FB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5398-7128-46A8-A3EC-45DFA07A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7A1A-32A9-416E-9B15-BE15D73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0BB1-B449-4B88-9237-D2137FE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0A65-EE6F-468C-8F89-B3F4D43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FE2E-95F3-4C04-B30E-7D4EF71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1B8E-EE89-481D-B865-47ACAEA7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C79E-2CBA-4437-84B8-78520A9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746A4-9AD3-428A-BC0D-50A0E75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199A-B0A1-49ED-8540-FC39D4D3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FC2-B43F-4B20-8020-0285EB9C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BC45-EA99-4C60-8233-711E656A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10F9-9011-4D5A-8B2B-C7A2B55E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7ECA-59B2-49C2-9A82-CE4256A6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6CDE2-55C6-4788-BE32-991A027C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E22B-9FE8-465C-9909-13633EE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1853-CE70-41D1-A4BC-9C7D6F0F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A98F-9986-4DFB-8854-5493FD1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7A883-5A5A-482E-ACC1-588E2B4D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F5FC-0F4D-4078-A316-CCCACDB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9859A-D171-4351-8F06-C2C09CC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12F-ABC8-4318-90BF-29D73B4D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9312-6AF5-4418-98FB-72FA537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60EC-EA53-4D5D-A560-AE02A11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0ED08-AEDE-4D40-8F09-ABE463E5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4B91-6070-4099-AC9B-E85B8EA3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AEB0-0BA9-4F4C-AE92-7ED102D7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CD65-B3E9-4E53-ABC1-2E768557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ED7A-1EE9-4647-9982-20CCC6C9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24E50-CF46-4D18-8FAF-EFFEAC56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B26D-B23C-405E-9323-5BC7B249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80AC-3672-4363-921C-05BA789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FF6-0680-48D1-B008-1265B4F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F965-DFE5-4806-86C7-E85F790F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2368-E3F5-4A43-9782-E12F8EA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EC10-46EE-4D01-A26D-149DB402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C140-F025-43D3-A26E-19E81DB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A448-9DFC-4AEF-AF03-ED77AAD6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0925-537B-4D9C-AF98-0F41809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F7C5-1CEF-4B73-AF74-3689F1EA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6EB2-A810-4191-8D3A-33D85BB1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251-BF01-4DD1-AC4A-CC50075933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12C-45D2-43B5-99E7-E38BAB9E87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8AE6-1214-41A8-9DE3-06DE517176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70F9-CF30-41B2-9F33-C7066319F1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7A2A-143C-4CF8-A018-0ED944761D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A7A-2295-434E-8D04-628A9F1069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4EA-CCA1-4B07-A142-143BCAC396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nt, Centi, Centu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6002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hundred; a hundredth par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enari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ennial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year or yea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centage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per=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throughout;  one out of every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gra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li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i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uple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ple=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thickness; to fold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icentenn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centenarian.jpg"/>
          <p:cNvPicPr/>
          <p:nvPr/>
        </p:nvPicPr>
        <p:blipFill>
          <a:blip r:embed="rId2"/>
          <a:stretch/>
        </p:blipFill>
        <p:spPr>
          <a:xfrm>
            <a:off x="1905120" y="4419720"/>
            <a:ext cx="2232000" cy="1968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entiliter.jpg"/>
          <p:cNvPicPr/>
          <p:nvPr/>
        </p:nvPicPr>
        <p:blipFill>
          <a:blip r:embed="rId3"/>
          <a:stretch/>
        </p:blipFill>
        <p:spPr>
          <a:xfrm>
            <a:off x="3429000" y="2590920"/>
            <a:ext cx="1486080" cy="1371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centimeter.jpg"/>
          <p:cNvPicPr/>
          <p:nvPr/>
        </p:nvPicPr>
        <p:blipFill>
          <a:blip r:embed="rId4"/>
          <a:stretch/>
        </p:blipFill>
        <p:spPr>
          <a:xfrm>
            <a:off x="7238880" y="4038480"/>
            <a:ext cx="1295640" cy="1238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cents.jpg"/>
          <p:cNvPicPr/>
          <p:nvPr/>
        </p:nvPicPr>
        <p:blipFill>
          <a:blip r:embed="rId5"/>
          <a:stretch/>
        </p:blipFill>
        <p:spPr>
          <a:xfrm>
            <a:off x="7162920" y="152280"/>
            <a:ext cx="1780920" cy="15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percentage.jpg"/>
          <p:cNvPicPr/>
          <p:nvPr/>
        </p:nvPicPr>
        <p:blipFill>
          <a:blip r:embed="rId6"/>
          <a:stretch/>
        </p:blipFill>
        <p:spPr>
          <a:xfrm>
            <a:off x="1447920" y="2666880"/>
            <a:ext cx="137160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ron, Chro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ynchroniz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syn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t the same time; together; like)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ze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subject to; to mak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logic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achronis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6" descr="synchronize.jpg"/>
          <p:cNvPicPr/>
          <p:nvPr/>
        </p:nvPicPr>
        <p:blipFill>
          <a:blip r:embed="rId2"/>
          <a:stretch/>
        </p:blipFill>
        <p:spPr>
          <a:xfrm>
            <a:off x="1066680" y="27432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synnch.jpg"/>
          <p:cNvPicPr/>
          <p:nvPr/>
        </p:nvPicPr>
        <p:blipFill>
          <a:blip r:embed="rId3"/>
          <a:stretch/>
        </p:blipFill>
        <p:spPr>
          <a:xfrm>
            <a:off x="3429000" y="5105520"/>
            <a:ext cx="1819440" cy="1447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chornomter.jpg"/>
          <p:cNvPicPr/>
          <p:nvPr/>
        </p:nvPicPr>
        <p:blipFill>
          <a:blip r:embed="rId4"/>
          <a:stretch/>
        </p:blipFill>
        <p:spPr>
          <a:xfrm>
            <a:off x="7172280" y="152280"/>
            <a:ext cx="19717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, Col-, Com-, Con-, Cor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; together; joint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ope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abo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mo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c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rro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pi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tell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conduct.jpg"/>
          <p:cNvPicPr/>
          <p:nvPr/>
        </p:nvPicPr>
        <p:blipFill>
          <a:blip r:embed="rId2"/>
          <a:stretch/>
        </p:blipFill>
        <p:spPr>
          <a:xfrm>
            <a:off x="3581280" y="335268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ollaborate.jpg"/>
          <p:cNvPicPr/>
          <p:nvPr/>
        </p:nvPicPr>
        <p:blipFill>
          <a:blip r:embed="rId3"/>
          <a:stretch/>
        </p:blipFill>
        <p:spPr>
          <a:xfrm>
            <a:off x="7315200" y="213372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onstellation.jpg"/>
          <p:cNvPicPr/>
          <p:nvPr/>
        </p:nvPicPr>
        <p:blipFill>
          <a:blip r:embed="rId4"/>
          <a:stretch/>
        </p:blipFill>
        <p:spPr>
          <a:xfrm>
            <a:off x="1600200" y="4876920"/>
            <a:ext cx="1676520" cy="1657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ooperate.jpg"/>
          <p:cNvPicPr/>
          <p:nvPr/>
        </p:nvPicPr>
        <p:blipFill>
          <a:blip r:embed="rId5"/>
          <a:stretch/>
        </p:blipFill>
        <p:spPr>
          <a:xfrm>
            <a:off x="7391520" y="4876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cooperatee.jpg"/>
          <p:cNvPicPr/>
          <p:nvPr/>
        </p:nvPicPr>
        <p:blipFill>
          <a:blip r:embed="rId6"/>
          <a:stretch/>
        </p:blipFill>
        <p:spPr>
          <a:xfrm>
            <a:off x="1523880" y="266688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1-26T18:09:57Z</dcterms:modified>
  <cp:revision>23</cp:revision>
  <dc:subject/>
  <dc:title>Roots List #1</dc:title>
</cp:coreProperties>
</file>